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D401-6BBF-480E-8377-47B77279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71D-C6E9-4EBC-9AF1-CF13EC12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6B3F-1226-4A07-8ECF-943B350C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CA4-D0AE-4DD1-B19A-12EF0614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8C86-EAE2-47A8-B004-90C80BE6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0404-B52E-48DC-A4F2-0355BD29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BC50-5629-46D6-AB87-80374BBB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486D-8092-4BD2-93F9-0CF5A50E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C7CA-C57B-4B87-8EB2-2D01FAC5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9831-A526-447B-ACDB-0C7B583B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EB92-E1E5-479D-B6E6-060E2725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3AC1-5676-4D04-821A-2325DBE0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043E-0F23-476F-9349-28A83F0C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FB87-CE08-4FD5-9681-10243466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F8B9-9491-4008-8969-585D761A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290F-E050-4D88-8FF8-AE99C7B4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95C4-F0B4-4DB0-AF5F-DDB75EBD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E75C3-3CE2-4F46-91B0-8CB8AEB1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B21EB-E1FD-41C9-A5BE-CD507BC3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135BA-76EC-47E1-A651-380B8283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C967F-6D70-49D2-9913-825D5454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9C621-0EAB-41E3-9E91-B3F372A1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970-1F9B-42AE-99CB-B85F705D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7B6A8-E414-49CA-9198-F64C3AE3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02AF1-96C5-4F3D-BA49-0AB56A8E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B95BC-29DA-4835-91FE-D58367CF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12240-E61E-4F72-9EB5-39C6B472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3B957-7725-4A6D-8640-529B8CC4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0D8ADE-FB8C-4476-A17C-9C843E3E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6E4CD-38FE-44B9-8B4F-553E8073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FF6A0-FFC8-4933-BA93-CED1E065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E5AEA-BB5E-4608-ADBF-B86AC510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EAB21-2316-4B7B-BC88-B87A7D2F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59E6-0A60-4FCF-A5D3-3D8173A1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C3E2D-C2B1-4354-AB98-60AA56DB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BE97-45D1-409E-AABB-24F74A51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9D657-181D-486F-832F-01155E73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F0FA8-42A3-4D23-9AF5-81B82A56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C67CF-295C-4DA0-BF70-B3CBF40A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64EE0-3E34-41C7-BA87-CB82AA6E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8CE42-19A9-4454-A429-AB33C086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51689-01B8-4024-90AD-471673B13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549E7-1E73-4474-9BEA-217FDC40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F53064-B160-44B4-8FC4-02D9E0E9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C855-1B52-45AA-B1CE-26DCED8C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A9FAB8-72D1-4074-928D-E1B28B1A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947414-7CFF-47B2-AB12-00BBC268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98E74-8A06-4F1D-9502-913F5765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A7075-D223-480F-B4DE-82D9EBD6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743E20-93F0-4809-9C64-3F35CB83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859E65-5C56-481D-BF74-83FE4CC3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19A0AF-A7FF-43D7-9139-A85D3996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B0CCA-885B-46AC-9E1E-A9ECF703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7C854-6B48-4B0C-A943-8FF8C1B8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20520-E064-4FC3-86FC-6D20B0F3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666D-AF80-40B0-8131-60BE77B1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241AA-4071-4DF7-8A34-E00D6CC4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F58FD1-2146-4E2F-AA12-65E5F6C3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2A1B75-7ED3-4EEC-9666-B01CFE7A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794529-335F-459F-818E-AD2F412C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83D11C-BCF5-4D69-B760-9BC3504E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31C0D6-0F26-4223-A721-594475A2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FB06FA-E6AF-47F9-B783-A8D3FBF7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FF44B6-08E3-4BC8-BEA5-F3CC98E2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36511D-D7AF-43D3-BBBC-727BDCF5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72D008-046F-4995-B566-027911A0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FA2-EFF5-46BB-840A-CD955647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138FC0-20CA-407B-A0F5-2B2B8836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2ABB79-74B6-4964-A939-C002105A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1C781D-62C4-42BB-8995-1B362DDB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3399E8-154B-48D8-BB4F-3645D414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CF4FDE-3079-4A22-B6C3-BE78C362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6F7337-FB97-4BBC-8C8D-F31FF12C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D38B67-2A02-4F1F-B1EE-EA00B824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AFE17-5E04-47C9-A6A7-6B7ED03B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B0980D-AD60-412B-A728-5DA8E75F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27EEAD-AF5B-41C2-AEAB-FAD12006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367-40CF-402F-A63D-D729548E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EA966A-4D09-406D-93D2-683DA70E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89F53-AD5D-484C-9117-2C26EE06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8AEFA3-975C-4536-9B0D-0752E711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26BBBF-136C-4D35-82F8-74F039B6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A5A2B9-717F-4155-8444-95C99899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F5DA-43D1-4609-9AD3-4786B9B1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7196-8FA8-480E-817D-B2D1ACDA759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8CC5-8A26-4105-AA3F-C3243FA353E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602E-9353-41A2-9B3B-8AE993883D3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0A0B-49BB-45C0-BC88-65AED311C9A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8065-A857-4118-B994-0118DB6AA7D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E000-5933-4DE6-91E1-329D097BB6E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387B-B260-45BB-A8C4-121328AFF8F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228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АВТОНОМНОЕ ДОШКОЛЬНОЕ ОБРАЗОВАТЕЛЬНОЕ УЧРЕЖДЕНИЕ «ДЕТСКИЙ САД КОМБИНИРОВАННОГО ВИДА № 50 «ТОПОЛЁК»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. БАЛАКОВО САРАТОВСКОЙ ОБЛАСТИ</a:t>
            </a:r>
            <a:br>
              <a:rPr sz="1200"/>
            </a:br>
            <a:r>
              <a:rPr b="1" lang="ru-RU" sz="1200" spc="-1" strike="noStrike">
                <a:solidFill>
                  <a:srgbClr val="575f6d"/>
                </a:solidFill>
                <a:latin typeface="Times New Roman"/>
                <a:ea typeface="Calibri"/>
              </a:rPr>
              <a:t> </a:t>
            </a:r>
            <a:endParaRPr b="0" lang="en-US" sz="1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08000" y="907920"/>
            <a:ext cx="8928000" cy="60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иды и формы деятельности при решении воспитателем задач в экологическом воспитании дошкольник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Подготовили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Никиташина Марина Александровн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Воспитатель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Крипиневич Ирина Игоревн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Воспитатель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24000" y="260280"/>
            <a:ext cx="842472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шему детскому саду повезло с месторасположением. Через дорогу будет находится Парк культуры и отдыха города, что позволит проводить экскурсии экологической направлен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бята могут посетить парк, находящийся около реки Сазанлей, парк «Памяти жертвам Чернобыля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Рисунок 5" descr=""/>
          <p:cNvPicPr/>
          <p:nvPr/>
        </p:nvPicPr>
        <p:blipFill>
          <a:blip r:embed="rId1"/>
          <a:stretch/>
        </p:blipFill>
        <p:spPr>
          <a:xfrm>
            <a:off x="1908000" y="2852640"/>
            <a:ext cx="518508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250560" y="404280"/>
            <a:ext cx="8281800" cy="60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экскурсиях дошкольники получают возможность непосредственно знакомиться со свойствами и качествами предметов, явлений путем наблюдений, в ходе выполнения заданий игрового или практического характе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Рисунок 3" descr=""/>
          <p:cNvPicPr/>
          <p:nvPr/>
        </p:nvPicPr>
        <p:blipFill>
          <a:blip r:embed="rId1"/>
          <a:stretch/>
        </p:blipFill>
        <p:spPr>
          <a:xfrm>
            <a:off x="792000" y="2852640"/>
            <a:ext cx="3635640" cy="305604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4" descr=""/>
          <p:cNvPicPr/>
          <p:nvPr/>
        </p:nvPicPr>
        <p:blipFill>
          <a:blip r:embed="rId2"/>
          <a:stretch/>
        </p:blipFill>
        <p:spPr>
          <a:xfrm>
            <a:off x="4803840" y="2852640"/>
            <a:ext cx="3714840" cy="3056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07640" y="189000"/>
            <a:ext cx="856764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кскурсии и походы направленны на укрепление  здоровья детей за счет длительного пребывания на свежем воздухе. Эмоции, возникающие при непосредственном соприкосновении с красотой природных объектов, несут радость, наслажде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Рисунок 1" descr=""/>
          <p:cNvPicPr/>
          <p:nvPr/>
        </p:nvPicPr>
        <p:blipFill>
          <a:blip r:embed="rId1"/>
          <a:stretch/>
        </p:blipFill>
        <p:spPr>
          <a:xfrm>
            <a:off x="1738440" y="2276640"/>
            <a:ext cx="5580000" cy="4186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Рисунок 3" descr=""/>
          <p:cNvPicPr/>
          <p:nvPr/>
        </p:nvPicPr>
        <p:blipFill>
          <a:blip r:embed="rId1"/>
          <a:stretch/>
        </p:blipFill>
        <p:spPr>
          <a:xfrm>
            <a:off x="1835280" y="3454560"/>
            <a:ext cx="4752720" cy="3240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78000" y="115920"/>
            <a:ext cx="8442000" cy="65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 счет включения в процесс экологического воспитания походы, экскурсии облегчается решение следующих задач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витие   у   детей   стремления   к   познанию   окружающего   мир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знакомление с природой родного края через объекты ближайшего окружения, воспитание любви и бережного отношения к не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24000" y="404280"/>
            <a:ext cx="8208720" cy="60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витие физических качеств и привычки здорового образа жизн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ирование навыков поведения в природе, заботы о природе и её обитателя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ширение знаний детей о значении каждого объекта природ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Рисунок 4" descr=""/>
          <p:cNvPicPr/>
          <p:nvPr/>
        </p:nvPicPr>
        <p:blipFill>
          <a:blip r:embed="rId1"/>
          <a:stretch/>
        </p:blipFill>
        <p:spPr>
          <a:xfrm>
            <a:off x="1835280" y="2924280"/>
            <a:ext cx="5219640" cy="3508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6840" y="765000"/>
            <a:ext cx="7467480" cy="570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6840" y="260280"/>
            <a:ext cx="814716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ответствии с Законом РФ «Об образовании», одной из основных задач образования является формирование духовно-нравственной личности. Духовно- нравственное воспитание детей - это и любовь к родным местам, малой Родине, гордость за свой народ, ощущение своей неразрывности с окружающим миром, желание сохранять и приумножить богатство своей страны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кологическое воспитание дошкольников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это непрерывный процесс воспитания и развития детей, направленный не только на расширение знаний в данной области, но и на формирование культуры поведения в природе, к соблюдению норм и правил поведения по отношению к н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94920" y="189000"/>
            <a:ext cx="820908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Цели и задачи экологического воспитания детей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знакомление с природой и природными явления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витие умения устанавливать причинно-следственные связи между природными явления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ирование первичных представлений о природном многообразии планеты Земл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ирование понимания того, что человек - часть природы, что он должен беречь, охранять и защищать ее, что в природе все взаимосвязано, что жизнь человека на Земле во многом зависит от окружающей сред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спитание умения правильно вести себя в природе, любить природу и беречь е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95280" y="189000"/>
            <a:ext cx="8353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витие познавательных интересов детей, развитие любознательности и познавательной мотивац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витие восприятия, внимания, памяти, наблюдательности, способности анализировать, сравнивать, выделять характерные, существенные признаки предметов и явлений окружающего мира; умения устанавливать простейшие связи между предметами и явлениями, делать простейшие обобщ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Рисунок 1" descr=""/>
          <p:cNvPicPr/>
          <p:nvPr/>
        </p:nvPicPr>
        <p:blipFill>
          <a:blip r:embed="rId1"/>
          <a:stretch/>
        </p:blipFill>
        <p:spPr>
          <a:xfrm>
            <a:off x="3059280" y="3627360"/>
            <a:ext cx="2997000" cy="2997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24000" y="260280"/>
            <a:ext cx="820872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кологический туризм даёт возможность формировать у дошкольников осознанно - правильное отношение к природе, природным явлениям. Дети получают новую информацию о живой и неживой природе, её представителях, знакомятся с народными приметами, литературными произведениями, через которые познают красоту окружающего мира, выполняют различные трудовые поручения, что даёт возможность понять меру собственной ответственности за сохранение и улучшение жизни растений и животных, необходимость бережного отношения ко всему живому, пониманию того, что человек – часть природ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23640" y="189000"/>
            <a:ext cx="828036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Экскурси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- один из видов занятий и основная форма организации работы по экологическому воспитанию дошкольников. Это своего рода занятия под открытым неб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Рисунок 3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021360" cy="4057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333000"/>
            <a:ext cx="814716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экскурсиях дети знакомятся с растениями, животными и условиями их обитания, а это способствует образованию первичных представлений о взаимосвязях в природе. Экскурсии способствуют развитию наблюдательности, возникновению интереса к природ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Рисунок 3" descr=""/>
          <p:cNvPicPr/>
          <p:nvPr/>
        </p:nvPicPr>
        <p:blipFill>
          <a:blip r:embed="rId1"/>
          <a:stretch/>
        </p:blipFill>
        <p:spPr>
          <a:xfrm>
            <a:off x="1547640" y="2924280"/>
            <a:ext cx="583272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06:51:56Z</dcterms:created>
  <dc:creator>Минеева А.В.</dc:creator>
  <dc:description/>
  <dc:language>en-US</dc:language>
  <cp:lastModifiedBy>Admin</cp:lastModifiedBy>
  <dcterms:modified xsi:type="dcterms:W3CDTF">2022-02-26T08:31:18Z</dcterms:modified>
  <cp:revision>231</cp:revision>
  <dc:subject/>
  <dc:title>Нуклеиновые кислоты. ДНК</dc:title>
</cp:coreProperties>
</file>